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1E46-F793-460A-A0B8-889684F55B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0349-90E8-4CA3-8F45-DD5BF7B3D9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ADEF-5BB3-43E1-876A-2738B4E2E3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今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今天几月几号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īn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星期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四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목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s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星期六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토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li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星期天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일요일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生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0" y="5040720"/>
            <a:ext cx="6524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000000"/>
                </a:solidFill>
                <a:latin typeface="굴림"/>
              </a:rPr>
              <a:t>明天是我的生日。</a:t>
            </a:r>
            <a:endParaRPr b="0" lang="en-US" sz="6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생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ēngrì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来学校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á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来我家吧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a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一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一定去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285480" y="6283800"/>
            <a:ext cx="626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반드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íd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去学校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3072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가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昨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昨天星期二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ó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看电影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明天几月几号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u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电影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我们看电影吧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영화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iànyǐ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们回家吧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돌아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í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祝你生日快乐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원하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빌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SimSun"/>
              </a:rPr>
              <a:t>快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生日快乐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즐겁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uàil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今天六月四号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六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今天六月十号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ùyu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星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几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五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금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w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一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星期一 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월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y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二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화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èr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三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수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s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3:55:52Z</dcterms:modified>
  <cp:revision>136</cp:revision>
  <dc:subject/>
  <dc:title>슬라이드 1</dc:title>
</cp:coreProperties>
</file>